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move the slide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BFFB-D09A-47DA-9F61-32F1D719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read reflectively, our questioning will lead us, not to just the summary of what happened, not just to  a cataloging of the events of the plot, but to an examination of how structure, themes, and style as well as multiple language strategies, support the meaning and unity of a piece, thus enhancing our appreciation, understanding, and enjoyment of its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can find ideas and lesson plans that can integrate with the text you are using in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silbilities are endless!  Different levels of books, different focusses during his life, bring in other wesites like the lincoln presidential muse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883-C545-42BC-996E-BB6D5539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313-8991-42AE-8CC1-EC2C9F8F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89B-1C0F-450B-B1C4-238236BF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C19-2B54-4F1D-8B13-EB53085C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1F6-CE1F-4F10-BF40-9E4E08DC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50FF-3645-4D71-880A-F7806506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B939-A530-450D-B025-5039194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E469-01A9-45E8-B900-93DC6E6A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3419-BAF1-49FE-87E5-3CC94756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BBF-2D88-41E9-A76D-E697562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603B-98AB-4CB6-B7BB-94ADF86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641-CEE1-4882-A5CD-5B327E6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B23-3B66-4624-A1B4-AADE462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E52-E39F-4821-ACB4-435839B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E97-1BF8-4F39-A4BC-9C243BB0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9A0-B8DB-46FD-8D94-1773AC36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EF4C-24F8-421D-AF72-9596498F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026-B08D-48C6-A79F-D5C8CDA6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11F-8F3B-4DEA-808F-FB84B05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E77-7B76-47CB-AEFB-0EC4BFF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7E6-74E2-47B4-873E-07D24AE5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7CF-2C45-49DD-91BD-1A656FE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4B7-CB7B-4116-AB07-CBAB15F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AB8-F542-4A1D-A911-6E149B79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660960" indent="-2541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73A5-72C6-4E40-8DF6-665498BCE28A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0CE5-32B5-459A-8FDA-F7FF1D11E95A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Using Non-fiction to Teach    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	</a:t>
            </a: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ritical Thinking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190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is Critical Thinking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dentifying and evaluating evidence to guide decision making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sing in-depth analysis of evidence to make decisions and communicate beliefs accurately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Century Gothic"/>
              </a:rPr>
              <a:t>Thinking….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f we think, we are likely to question: if we question we are likely to analyze: if we analyze we are likely to evaluate or criticize the object of our thinking proces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01680" indent="-301680">
              <a:spcBef>
                <a:spcPts val="601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e do this is the context of our world,of other ideas and other sources of input.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neva"/>
              </a:rPr>
              <a:t>Dr. Catherine C. Lin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Reasons for using non-fiction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Teaching with Historic Places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ttp://www.nps.gov/history/nr/twhp/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5029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21b"/>
                </a:solidFill>
                <a:latin typeface="Century Gothic"/>
              </a:rPr>
              <a:t>Teaching with Historic Places</a:t>
            </a:r>
            <a:endParaRPr b="0" lang="en-US" sz="40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ncolns Bicentennial Site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58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26:48Z</dcterms:created>
  <dc:creator>Curriculum Dept</dc:creator>
  <dc:description/>
  <dc:language>en-US</dc:language>
  <cp:lastModifiedBy>Curriculum Dept</cp:lastModifiedBy>
  <dcterms:modified xsi:type="dcterms:W3CDTF">2009-11-11T20:37:54Z</dcterms:modified>
  <cp:revision>1</cp:revision>
  <dc:subject/>
  <dc:title>Using Non-fiction to Teach     Critical Thinking</dc:title>
</cp:coreProperties>
</file>